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B7F8-D685-4DEF-9A2C-112241970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00C4-E9F4-4D83-8EC8-2E3BA28F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C215-E5E0-4A2F-94D9-8F288751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F15-0E04-4266-8481-EFE07D49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D77B-6EB5-4EDE-A02A-F5528C68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12F-C865-4F9C-8725-7B0CCC46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3328-D2D4-44D4-A731-70FB98B6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1376-3F32-4674-91F3-221D981D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ECAF-CCD9-4B2B-AF97-C0DB7E8B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FFD3-5014-46E8-A043-E7D30E12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64C-CDBD-48D8-9ED2-4E2C8ABA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CDF4-9BA6-4708-80ED-B618769A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75A8-B260-4426-AC85-219572E330C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24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World progress 1970 - 201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5013000"/>
            <a:ext cx="8280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98989"/>
                </a:solidFill>
                <a:latin typeface="Calibri"/>
              </a:rPr>
              <a:t>NEW INTERNATIONALIST  EASIER ENGLISH IELTS / ADVANCED READY LESS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987640" y="318960"/>
            <a:ext cx="6012000" cy="1511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44280" y="233280"/>
            <a:ext cx="27910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67920"/>
            <a:ext cx="8291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ading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– about global issues and comparing simplified and original artic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peaking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– discussing global issues – practice for the IELTS speaking ex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– practice interpreting graphs and writing 150 word summary for IELTS writing exa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ow can we measure progres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4920" y="169992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discuss, then read and make notes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ttp://eewiki.newint.org/index.php/Measuring_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discuss again, then read the original articl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ttp://newint.org/features/2013/03/01/a-measure-of-progress-keynot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now compare the two articles and note down some new vocabul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020000" y="4962600"/>
            <a:ext cx="14857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look at the graphs on the infographic on the next slide (or on the link below, with zoom feature) – and discuss what they show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4149720"/>
            <a:ext cx="829152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newint.org/features/2013/03/01/world-progress-the-facts-infographic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3360" y="271440"/>
            <a:ext cx="904716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57360"/>
            <a:ext cx="5410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choose one of the sections of the infographic and write (in pairs, or alone) a summary of what it shows – 150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6032520" y="155736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6T12:06:45Z</dcterms:created>
  <dc:creator>Linda</dc:creator>
  <dc:description/>
  <dc:language>en-US</dc:language>
  <cp:lastModifiedBy>Linda Ruas</cp:lastModifiedBy>
  <dcterms:modified xsi:type="dcterms:W3CDTF">2013-08-01T16:00:02Z</dcterms:modified>
  <cp:revision>10</cp:revision>
  <dc:subject/>
  <dc:title>PowerPoint Presentation</dc:title>
</cp:coreProperties>
</file>